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EEEB-5DB5-4FCE-8DAE-CDF1BD9B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A367-29B7-4D43-992C-621B116B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312E5-7E0F-4DCF-BC39-0A1F2C4C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3C753-A04C-4DC3-B29D-DBDA3CD2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7BF6C-A772-40DA-A5D8-A17FAD54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05162-1887-4881-9630-423268FF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2713E-3207-4732-94D7-88E6942A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B5B34-69CB-457A-B739-211B56B9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7C7BA-F3D1-4CA8-9BCD-16A342C5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F33134-3621-4948-91A1-7B61178F2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EB85F-F1B5-46C3-A574-D7B2412D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FB8B9-4DBE-4256-81DE-48C257EF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3660-AB36-435E-B791-D7D89B69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BF985-8960-4394-96CD-54E06C7A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0B04B-A926-4212-BDC5-5DAD30DA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64EDD-E968-488C-BC73-B6F88DBF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DF2C4-21BD-4BF6-8B92-4C7E2A7F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76DF5-BF0B-4A08-8E93-2AAACE17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8D7A1-4F32-4A95-BB09-A6005FD1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D2A1A-6EDF-47F0-9BB0-8837BDA7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F8B87-7F79-40AD-9F8B-48FA8B6D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AB24D-D3F0-48BA-B274-EC208965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97450-B5AE-47B9-8B97-D36E9204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7D51-F882-40B3-AD0C-C08F7D1A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6CE8C-0C1D-4871-A69A-79AD38F02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ADE0-3341-4502-93A4-BA03731C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1070-D208-4A66-ACF4-F081A68C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4E3A-3F5D-415F-8979-88CB8DF2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0F82-6B4F-456B-8268-3D001C5D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2D7C-058F-467B-8151-193894EE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7D4D-2A13-4D16-AE66-196587FF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2A7D-88D1-4387-961E-A13BE6AC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45ED-9B8C-42B3-BC9D-7C122AE8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9183-38D8-487B-8FDA-90FA1B10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22D6-C8AE-4FC4-89A7-545B9933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2B2A-6415-46E9-BF61-D01E72BE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9783-7EF1-40B6-8191-B7BE22ECC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3C85-7485-40C6-A798-91653DA9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9AFFE-8A86-451A-8828-A68AD616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A001D-E3C2-4B4E-822C-5C755B7A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C63EE-3686-4978-B0C5-0F10E9DD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C95A7-EAC6-4501-AD42-8A5FEFD3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49942-B9D9-4279-9FEE-65143017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74DD-4DFF-43A4-95FE-D5D31B2C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2FC2D-DED7-41CD-A6BA-FBDC0FE8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7D54F-7709-4032-8553-1AEDEDBE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11870-67CD-412E-A4B7-E8BC7826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D4F40-F343-47F7-B54A-47083983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28C20-32FC-4436-9A88-7A4E7C0D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E7373-09AE-46EF-AAF3-1AF4F113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969C0-4BCC-4B60-8046-5E4DE8C3F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261E6-F410-430F-94AD-9D08E7EB2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93A0F-0D69-413D-AB4E-C4763665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49ECF-FAAD-42F7-B3F8-25050047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218C-21A1-413F-A7B9-40A575C0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76807-AE53-4127-8D87-EC9EA653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1F93F-7B8F-45A0-A9C8-8AD855BD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32943-8F98-4C00-95CE-8C04FC51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EACBB-B5FF-4696-BD6C-813671ED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FF3B8-D607-4D8A-B217-C5EEC461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78441-6708-4DE8-A002-00EF4C0D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481D1-1281-4789-9E0D-7F13922C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8C699-A8FA-422B-86F1-72FD431F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5DB79-C5FE-43C7-A8BE-AA310DF22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FEF77-FC67-4AC1-B428-1F79868B0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E53D-6F51-4E84-95D5-DEFF4FE3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131CB-86BA-4252-9A46-9A1A2F4D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B3891-3AF3-4E36-A0CA-D674392E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8AB94-A0E7-4B7A-AE5B-B8B4182A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C972D-17DA-43CE-8FAA-AA78BA27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8F76B-45E9-426E-B976-16D66F0F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73099-55C4-460B-92D4-38FAE540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A2DB0-DD29-406C-A9B2-D9CDC486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7EFE7-3D7B-463C-B04B-17D53F4A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B1AF6-A970-457E-8FB8-7E66D3FC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C5D1A-E9FF-4484-9BBB-C2F44851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D524-17FB-4C43-91CC-54C82A20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9A0E0-32DB-43A2-91A2-A92941E7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4AAF8-4558-4FBD-968C-91C82E451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178C8-6EF6-4668-8046-72D7CF84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A4DF7-74F1-47AD-A263-45F56041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84E64-11EA-4CAE-A1D4-6345DF0F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B4F7A-A880-4CBC-B591-7C029E61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0D809-2C90-4139-A937-C9791074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E1E42-3D86-4A4F-BD06-F4AA0A69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1ED18-9049-4911-A62F-E49C4BBA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4DEE8-93BE-45B0-A5CA-BDB9C119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49EE-38F4-4118-AA87-8A2DD587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51753-308A-4CEF-9FB0-6C14CCFC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2D471-36EE-466F-B5DE-394C997A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849B5-EBAC-4B36-8692-451A6BA1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D7094-13DD-4AE9-B7FD-B5F83D241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3B6C0-6AED-4F41-BFA7-27295697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DBF3A-B502-4D80-8077-3E8EEC56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212CF-B0B5-4F0C-B4C3-60277854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F2972-A4B6-41FB-B102-C13FE097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3306F-E005-4FB4-984E-58E0332A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E4CF3-72FA-4769-941A-22946572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61DE-6FAF-476A-A50D-F977A988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0D001-2BB4-47E4-9558-A5820873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B0087-FEF2-4033-8794-6198CBC9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CB96B-8A12-48F5-B646-88C46915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1AADB-AB19-4FFE-A404-73333951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B77E4-5187-4ECA-AFB2-899B67E2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028E9-41AA-47C4-9A9A-A4DC5C40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539AD-AC0B-4178-9301-0213C958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9FE3E-73B4-4BE7-884B-71CC8C66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56889-2329-4CE0-9183-F7CE245B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26CD0-9A71-4992-A724-9CB956ED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42C6-098D-4271-A99A-5A8F2044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B13EA-D843-4476-AD0C-068D774B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37080-149E-451A-9618-028BDCE9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7C90F-8BBE-493D-AF39-FD10ED1A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449D3-1E3C-4D9C-9AD1-F493C78C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FE365-2D25-4BF5-9DF0-D186064B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E5A1D-D7AF-4153-9873-EB1B02269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5BC6F-5BA9-483A-A194-B389DDEA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F04D3-6ABD-455A-A748-F96C8633F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4B1E7-440F-4B71-B85B-328FA157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4BA06-53B6-4244-9581-285EBC00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1C6C-9B89-4281-8DF5-FDA37887435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98AE-8E22-46EB-A549-56955F93564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040D-D0C3-41F3-ADF9-4FEB0E1BF96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1FBB-9737-4F8C-9442-97961F96C68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89CF-1D20-4824-9005-0E572FCC14D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B9BC-EF92-426A-BDA3-ECFB61990E3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041C-DBB2-4AE7-AA4A-8B43F830372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29CC-23DA-4565-BCF9-4B06B63EDEA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D4DD-502C-483D-980E-510219E05EA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4DC9-E39C-4E07-B5B1-036717AEE92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3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제 이름은 김진수입니다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제 이름은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영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이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스즈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프랑스와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량위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처음 뵙겠습니다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. 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제 이름은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.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반갑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저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야마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김경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나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박정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이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최유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히로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리밍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영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Introduce yourself (in Korean) with the sentences from Lesson 1 to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즈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저는 스즈키입니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진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 이름은 김진수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즈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처음 뵙겠습니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진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반갑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만나서 반갑습니다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름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na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처음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for the first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뵙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see, me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Corbel"/>
                <a:ea typeface="굴림"/>
              </a:rPr>
              <a:t>보다 </a:t>
            </a:r>
            <a:r>
              <a:rPr b="0" lang="ko-KR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Corbel"/>
                <a:ea typeface="굴림"/>
              </a:rPr>
              <a:t>뵈옵다 </a:t>
            </a:r>
            <a:r>
              <a:rPr b="0" lang="ko-KR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Corbel"/>
                <a:ea typeface="굴림"/>
              </a:rPr>
              <a:t>뵙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반갑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be glad, be n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rbel"/>
                <a:ea typeface="굴림"/>
              </a:rPr>
              <a:t>Irregular variation </a:t>
            </a:r>
            <a:r>
              <a:rPr b="0" lang="ko-KR" sz="2400" spc="-1" strike="noStrike">
                <a:solidFill>
                  <a:srgbClr val="ff0000"/>
                </a:solidFill>
                <a:latin typeface="Corbel"/>
                <a:ea typeface="굴림"/>
              </a:rPr>
              <a:t>반가웠습니다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는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postposition making noun su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한국말 선생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교과서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오늘은 비가 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root of the declarative ending when a noun is used as predicate (subject supple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김영수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것은 문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책상입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a humble expression of the first personla pronoun ‘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. Become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제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 with postposition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학생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미국 사람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제가 그 일을 하겠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제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 m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나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제 책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여기가 제 방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내 가방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한국 사람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Korea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구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ho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회사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맑은 고딕"/>
              </a:rPr>
              <a:t>office?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) work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의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hai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중국 사람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hine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시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atc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미국 사람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America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책상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es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할아버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randfa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일본 사람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Japane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구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버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의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저는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정수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지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본 사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중국 사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0-09T20:51:14Z</dcterms:modified>
  <cp:revision>76</cp:revision>
  <dc:subject/>
  <dc:title>KOREAN LANGUAGE</dc:title>
</cp:coreProperties>
</file>